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10400" cy="929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1CDAD3-A24A-4B8A-BAE5-90DD19AA1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414440" y="1162080"/>
            <a:ext cx="4181040" cy="31366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700920" y="4473720"/>
            <a:ext cx="5608080" cy="3660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7"/>
          </p:nvPr>
        </p:nvSpPr>
        <p:spPr>
          <a:xfrm>
            <a:off x="3970800" y="8830080"/>
            <a:ext cx="3037320" cy="46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54F78B-2794-4E5E-99C8-355CD02F77A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B86C-A576-4207-AC57-C57EE7B1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7521-8918-4393-A4F0-0F1EE4C4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40FD-E7D7-4139-9A01-CF9BB612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61E-377B-4721-9407-409AF863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7724-009C-4C38-8E69-B26E80F1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39C2-C625-4C05-BA7F-487EB935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D5F4-2A1E-41B7-8323-5022DF9A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9293-0783-4A2C-AFBA-CAD11D1B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1F98-FD84-457F-8155-C43C20A3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263E-5C9D-43F4-A95C-9956FFB6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E792-8066-4039-833F-521E276C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E795-CD54-4B9A-A2B9-9C022D0E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ES_tradnl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_tradnl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98A843-4556-4077-9B1B-A3B9DE4DC43F}" type="slidenum">
              <a:rPr b="0" lang="es-ES_tradnl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s-ES_tradnl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s-ES_tradnl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s-ES_tradnl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s-ES_tradn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CuadroTexto 1"/>
          <p:cNvSpPr/>
          <p:nvPr/>
        </p:nvSpPr>
        <p:spPr>
          <a:xfrm>
            <a:off x="537840" y="1273320"/>
            <a:ext cx="57952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MX" sz="4800" spc="-1" strike="noStrike">
                <a:solidFill>
                  <a:srgbClr val="616161"/>
                </a:solidFill>
                <a:latin typeface="Adelle Sans ExtraBold"/>
              </a:rPr>
              <a:t>Educación Financie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uadroTexto 1"/>
          <p:cNvSpPr/>
          <p:nvPr/>
        </p:nvSpPr>
        <p:spPr>
          <a:xfrm>
            <a:off x="537840" y="2885760"/>
            <a:ext cx="5795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MX" sz="4800" spc="-1" strike="noStrike">
                <a:solidFill>
                  <a:srgbClr val="616161"/>
                </a:solidFill>
                <a:latin typeface="Adelle Sans ExtraBold"/>
              </a:rPr>
              <a:t>Clausura del Cur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ángulo 1"/>
          <p:cNvSpPr/>
          <p:nvPr/>
        </p:nvSpPr>
        <p:spPr>
          <a:xfrm>
            <a:off x="5335920" y="602280"/>
            <a:ext cx="363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a51c32"/>
                </a:solidFill>
                <a:latin typeface="Adelle Sans"/>
              </a:rPr>
              <a:t>Educ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ángulo 2"/>
          <p:cNvSpPr/>
          <p:nvPr/>
        </p:nvSpPr>
        <p:spPr>
          <a:xfrm>
            <a:off x="1277640" y="1919160"/>
            <a:ext cx="7277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Orden de clausura del Cur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ángulo 4"/>
          <p:cNvSpPr/>
          <p:nvPr/>
        </p:nvSpPr>
        <p:spPr>
          <a:xfrm>
            <a:off x="1223640" y="2500920"/>
            <a:ext cx="727740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616161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Presentación y comparativa de los Resultados antes y después del Cur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16161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Retroalimentación por parte de los participantes en relación a las evaluaciones aplicadas por cada Capítu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16161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Entrega de los Perfiles de Proyecto Productivo y de sus evaluaciones a cada grupo o particip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16161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Retroalimentación por parte de los participantes en relación al Perfil de Proyecto Productivo elaborado durante el Cur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ángulo 1"/>
          <p:cNvSpPr/>
          <p:nvPr/>
        </p:nvSpPr>
        <p:spPr>
          <a:xfrm>
            <a:off x="5335920" y="602280"/>
            <a:ext cx="363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a51c32"/>
                </a:solidFill>
                <a:latin typeface="Adelle Sans"/>
              </a:rPr>
              <a:t>Educ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ángulo 2"/>
          <p:cNvSpPr/>
          <p:nvPr/>
        </p:nvSpPr>
        <p:spPr>
          <a:xfrm>
            <a:off x="1277640" y="1919160"/>
            <a:ext cx="7277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Orden de clausura del Cur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ángulo 4"/>
          <p:cNvSpPr/>
          <p:nvPr/>
        </p:nvSpPr>
        <p:spPr>
          <a:xfrm>
            <a:off x="1223640" y="2500920"/>
            <a:ext cx="7277400" cy="29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5. Se solicitará al participante que evalúe el contenido del Curso (Formato: No. F27-EvCurso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6.- Comentarios y recomendaciones de los participantes para el Curso y Facilit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7.- Entrega de Reconocimientos de Participación a los Produc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8.- Cierre del Cu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ángulo 1"/>
          <p:cNvSpPr/>
          <p:nvPr/>
        </p:nvSpPr>
        <p:spPr>
          <a:xfrm>
            <a:off x="5335920" y="602280"/>
            <a:ext cx="363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a51c32"/>
                </a:solidFill>
                <a:latin typeface="Adelle Sans"/>
              </a:rPr>
              <a:t>Educ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ángulo 2"/>
          <p:cNvSpPr/>
          <p:nvPr/>
        </p:nvSpPr>
        <p:spPr>
          <a:xfrm>
            <a:off x="1277640" y="1566720"/>
            <a:ext cx="7277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Actividad: Formato de Evaluación del contenido del curso</a:t>
            </a: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	</a:t>
            </a: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 de Educación Financiera de los particip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ángulo 4"/>
          <p:cNvSpPr/>
          <p:nvPr/>
        </p:nvSpPr>
        <p:spPr>
          <a:xfrm>
            <a:off x="864360" y="3026160"/>
            <a:ext cx="7690680" cy="29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Instruccion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16161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Aplicación del Formato No. F27-EvCurs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  </a:t>
            </a: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Duración 30 minu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16161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Al concluir, se entregará la evaluación al Facilitad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16161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Al terminar la entrega se dará un breve espacio para retroalimentar el Cur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de Office">
  <a:themeElements>
    <a:clrScheme name="Opulento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DVMPres</Template>
  <TotalTime>2850</TotalTime>
  <Application>LibreOffice/7.4.7.2$Linux_X86_64 LibreOffice_project/40$Build-2</Application>
  <AppVersion>15.0000</AppVersion>
  <Words>183</Words>
  <Paragraphs>23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4T18:12:53Z</dcterms:created>
  <dc:creator>Hewlett-Packard Company</dc:creator>
  <dc:description/>
  <dc:language>en-US</dc:language>
  <cp:lastModifiedBy>VAIO USER</cp:lastModifiedBy>
  <cp:lastPrinted>2019-11-12T17:28:47Z</cp:lastPrinted>
  <dcterms:modified xsi:type="dcterms:W3CDTF">2021-02-11T16:03:37Z</dcterms:modified>
  <cp:revision>144</cp:revision>
  <dc:subject/>
  <dc:title>Planeación #ExpoPueblaCDMX201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Presentación en pantalla (4:3)</vt:lpwstr>
  </property>
  <property fmtid="{D5CDD505-2E9C-101B-9397-08002B2CF9AE}" pid="4" name="Slides">
    <vt:r8>4</vt:r8>
  </property>
</Properties>
</file>