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B8325-9456-4177-9489-72BE16E3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040" cy="3136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7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9FBAA-FFE4-4566-BC6E-E6D1020AFB1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5C6-834A-4217-B173-3C3AC188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35B-F0DB-4791-B884-E6E81293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69C-DEDD-47A1-AE1A-9474B13C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56D-5B4C-4A4B-855E-CE9D2312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5B9-C350-4CFC-A0B6-571B651F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C2D-F8FF-4703-AAC1-4720C6E2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7AF-07A4-46E9-80AE-6957D48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973-7A39-4CFA-9D85-EDABAD0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1D2-8203-4BFA-9912-8FFB8D5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A31-1214-4AFA-B4B6-73BCF31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D04-701E-4F72-B2E8-943D8B5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EC8-EC3D-4AEA-AE3F-CBF3197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AE39A-F824-48F4-A43C-1B488A452783}" type="slidenum"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uadroTexto 1"/>
          <p:cNvSpPr/>
          <p:nvPr/>
        </p:nvSpPr>
        <p:spPr>
          <a:xfrm>
            <a:off x="537840" y="1273320"/>
            <a:ext cx="5795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4800" spc="-1" strike="noStrike">
                <a:solidFill>
                  <a:srgbClr val="616161"/>
                </a:solidFill>
                <a:latin typeface="Adelle Sans ExtraBold"/>
              </a:rPr>
              <a:t>Educación Financi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ángulo 2"/>
          <p:cNvSpPr/>
          <p:nvPr/>
        </p:nvSpPr>
        <p:spPr>
          <a:xfrm>
            <a:off x="1277640" y="1403640"/>
            <a:ext cx="7018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4"/>
          <p:cNvSpPr/>
          <p:nvPr/>
        </p:nvSpPr>
        <p:spPr>
          <a:xfrm>
            <a:off x="1051920" y="2523600"/>
            <a:ext cx="7469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Los beneficios de la inclusión financiera por parte del sector agropecuario y rural, se traducen en un mayor bienestar y desarrollo económico, incidiendo directamente en la reducción de la pobreza y la posibilidad de mejorar las condiciones de vida del productor, dado que el acceso a recursos crediticios facilita la inversión productiva, la adquisición de insumos, la adopción de tecnologías innovadoras, sustentables y la diversificación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ángulo 2"/>
          <p:cNvSpPr/>
          <p:nvPr/>
        </p:nvSpPr>
        <p:spPr>
          <a:xfrm>
            <a:off x="1277640" y="1403640"/>
            <a:ext cx="7018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Marco de referencia para propiciar la Educación Financiera en el Sector Agropecuario y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4"/>
          <p:cNvSpPr/>
          <p:nvPr/>
        </p:nvSpPr>
        <p:spPr>
          <a:xfrm>
            <a:off x="1051920" y="2523600"/>
            <a:ext cx="7469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Los beneficios de la inclusión financiera por parte del sector agropecuario y rural, se traducen en un mayor bienestar y desarrollo económico, incidiendo directamente en la reducción de la pobreza y la posibilidad de mejorar las condiciones de vida del productor, dado que el acceso a recursos crediticios facilita la inversión productiva, la adquisición de insumos, la adopción de tecnologías innovadoras, sustentables y la diversificación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ángulo 2"/>
          <p:cNvSpPr/>
          <p:nvPr/>
        </p:nvSpPr>
        <p:spPr>
          <a:xfrm>
            <a:off x="1277640" y="193608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ángulo 4"/>
          <p:cNvSpPr/>
          <p:nvPr/>
        </p:nvSpPr>
        <p:spPr>
          <a:xfrm>
            <a:off x="1277640" y="3075840"/>
            <a:ext cx="7018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esarrollar, fomentar la promoción, participación, desarrollo de habilidades y capacidades en el productor para el acceso a créditos y otros instrumento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ángulo 2"/>
          <p:cNvSpPr/>
          <p:nvPr/>
        </p:nvSpPr>
        <p:spPr>
          <a:xfrm>
            <a:off x="1277640" y="1692000"/>
            <a:ext cx="70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s part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ángulo 4"/>
          <p:cNvSpPr/>
          <p:nvPr/>
        </p:nvSpPr>
        <p:spPr>
          <a:xfrm>
            <a:off x="1277640" y="2489760"/>
            <a:ext cx="701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1.- Promover la Educación Financiera consiente y responsable, en el medio rural, como una alternativa de apoyo al desarrollo, crecimiento y mejora de las condiciones económicas actuales de vida en los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ángulo 4"/>
          <p:cNvSpPr/>
          <p:nvPr/>
        </p:nvSpPr>
        <p:spPr>
          <a:xfrm>
            <a:off x="1277640" y="4355640"/>
            <a:ext cx="701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2.- Fomentar la gestión y uso del crédito, como herramienta de apoyo y desarrollo en el medio rural, buscando incrementar y mejorar las unidades de producción rural, incentivando la asociatividad de grupos de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ángulo 2"/>
          <p:cNvSpPr/>
          <p:nvPr/>
        </p:nvSpPr>
        <p:spPr>
          <a:xfrm>
            <a:off x="977040" y="144144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Contenido, actividades y ejercicios del Curso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ángulo 4"/>
          <p:cNvSpPr/>
          <p:nvPr/>
        </p:nvSpPr>
        <p:spPr>
          <a:xfrm>
            <a:off x="977040" y="2200680"/>
            <a:ext cx="72774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Exposición 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e conceptos generales en materia de Educación Financi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es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 / participación grupal coordinadas por el facilitad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616161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Repaso general de cada capítulo (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preguntas aleatorias 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final de cada t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616161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Generación de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ideas centrales 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cerca de cada 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616161"/>
              </a:buClr>
              <a:buFont typeface="Arial"/>
              <a:buChar char="•"/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Unificación de conceptos 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 través de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lluvia de ideas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ángulo 2"/>
          <p:cNvSpPr/>
          <p:nvPr/>
        </p:nvSpPr>
        <p:spPr>
          <a:xfrm>
            <a:off x="990720" y="20203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Contenido, actividades y ejercicios del Curso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4"/>
          <p:cNvSpPr/>
          <p:nvPr/>
        </p:nvSpPr>
        <p:spPr>
          <a:xfrm>
            <a:off x="977040" y="3075120"/>
            <a:ext cx="7277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3. Retroalimentación;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 el participante aporta ideas y evalúa el contenido del capítulo y al facilitador, para llevar a cabo la mejora continua en el contenido e impartición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4. Exposición Final</a:t>
            </a: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 del Perfil de Proyecto de uno o más grupos por parte de los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pulento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VMPres</Template>
  <TotalTime>2873</TotalTime>
  <Application>LibreOffice/7.4.7.2$Linux_X86_64 LibreOffice_project/40$Build-2</Application>
  <AppVersion>15.0000</AppVersion>
  <Words>408</Words>
  <Paragraphs>27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8:12:53Z</dcterms:created>
  <dc:creator>Hewlett-Packard Company</dc:creator>
  <dc:description/>
  <dc:language>en-US</dc:language>
  <cp:lastModifiedBy>VAIO USER</cp:lastModifiedBy>
  <cp:lastPrinted>2019-11-12T17:28:47Z</cp:lastPrinted>
  <dcterms:modified xsi:type="dcterms:W3CDTF">2021-02-11T14:36:07Z</dcterms:modified>
  <cp:revision>145</cp:revision>
  <dc:subject/>
  <dc:title>Planeación #ExpoPueblaCDMX20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7</vt:r8>
  </property>
</Properties>
</file>