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10400" cy="929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732257-8780-4F24-946C-1C0BDD994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414440" y="1162080"/>
            <a:ext cx="4181040" cy="31366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0920" y="4473720"/>
            <a:ext cx="5608080" cy="3660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7"/>
          </p:nvPr>
        </p:nvSpPr>
        <p:spPr>
          <a:xfrm>
            <a:off x="3970800" y="8830080"/>
            <a:ext cx="3037320" cy="46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EDB207-535C-4CFA-9908-28DECA65C84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414440" y="1162080"/>
            <a:ext cx="4181040" cy="3136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0920" y="4473720"/>
            <a:ext cx="5608080" cy="3660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finalizar el ejercicio, el facilitador enunciará a los participantes, los principales beneficios de planificar de manera correcta un presupuesto de ingresos y egresos para su Unidad de Producción R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8"/>
          </p:nvPr>
        </p:nvSpPr>
        <p:spPr>
          <a:xfrm>
            <a:off x="3970800" y="8830080"/>
            <a:ext cx="3037320" cy="46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MX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14E244-75E4-487B-9EEC-42E657102867}" type="slidenum">
              <a:rPr b="0" lang="es-MX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414440" y="1162080"/>
            <a:ext cx="4181040" cy="31366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0920" y="4473720"/>
            <a:ext cx="5608080" cy="3660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finalizar el ejercicio, el facilitador enunciará a los participantes, los principales beneficios de planificar de manera correcta un presupuesto de ingresos y egresos para su Unidad de Producción R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9"/>
          </p:nvPr>
        </p:nvSpPr>
        <p:spPr>
          <a:xfrm>
            <a:off x="3970800" y="8830080"/>
            <a:ext cx="3037320" cy="46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MX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C455DD-3407-40E0-9CAF-DE38FE554B77}" type="slidenum">
              <a:rPr b="0" lang="es-MX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F38-D856-4464-AF27-BD2D6BDB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2032-BDFD-4634-BF8B-FA6AA749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E3C7-B771-423B-AC52-36D80A82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217B-EA63-4F1F-B6C7-FECA4C09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40A-3D85-420D-B37D-18B23E66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8A09-DFD6-4D01-A698-54E7F3A0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6FB-8D31-4D48-AD5D-45806458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13E-79AD-4DE5-B96F-8934B94A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267-A7DF-43B6-8762-3B8A8B92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7BD8-3A72-4173-B6E8-F6E52AC5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07C-4016-4F0E-A09A-27945E75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F33-81A4-4D14-A7A7-DF37C6DE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ES_tradn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_tradnl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C941C1-D898-45E8-B498-42CC1FEC5CEE}" type="slidenum">
              <a:rPr b="0" lang="es-ES_tradnl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ES_tradnl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ES_tradnl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ES_tradnl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ES_tradnl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ES_tradnl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ES_tradn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CuadroTexto 1"/>
          <p:cNvSpPr/>
          <p:nvPr/>
        </p:nvSpPr>
        <p:spPr>
          <a:xfrm>
            <a:off x="537840" y="1273320"/>
            <a:ext cx="57952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MX" sz="4800" spc="-1" strike="noStrike">
                <a:solidFill>
                  <a:srgbClr val="616161"/>
                </a:solidFill>
                <a:latin typeface="Adelle Sans ExtraBold"/>
              </a:rPr>
              <a:t>Educación Financie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ángulo 2"/>
          <p:cNvSpPr/>
          <p:nvPr/>
        </p:nvSpPr>
        <p:spPr>
          <a:xfrm>
            <a:off x="1277640" y="1467720"/>
            <a:ext cx="7277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2. </a:t>
            </a: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Actividad de “Sensibilización”</a:t>
            </a: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ángulo 4"/>
          <p:cNvSpPr/>
          <p:nvPr/>
        </p:nvSpPr>
        <p:spPr>
          <a:xfrm>
            <a:off x="805320" y="2719440"/>
            <a:ext cx="80380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A través del ejercicio de “Sensibilización” se permitirá al participante ejemplificar e identificar cuáles son los beneficios y resultados generales de llevar a cabo un Presupuesto de Egresos e Ingresos en su Unidad de producción rural de manera planificada y estructu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A través de esta actividad, el productor deberá ejemplificar como lleva a cabo su planeación de ingresos y egresos (costos de producción) para contar con los recursos necesarios de cada ciclo productivo (situación actu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ángulo 2"/>
          <p:cNvSpPr/>
          <p:nvPr/>
        </p:nvSpPr>
        <p:spPr>
          <a:xfrm>
            <a:off x="1277640" y="2082960"/>
            <a:ext cx="7277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Objetivo Gen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ángulo 2"/>
          <p:cNvSpPr/>
          <p:nvPr/>
        </p:nvSpPr>
        <p:spPr>
          <a:xfrm>
            <a:off x="1277640" y="1467720"/>
            <a:ext cx="7277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2. </a:t>
            </a: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Actividad de “Sensibilización”</a:t>
            </a: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ángulo 4"/>
          <p:cNvSpPr/>
          <p:nvPr/>
        </p:nvSpPr>
        <p:spPr>
          <a:xfrm>
            <a:off x="805320" y="2719440"/>
            <a:ext cx="8038080" cy="29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A través del ejercicio de “Sensibilización” al participante ejemplificará e identificará cuáles son los medios y resultados que emplea para llevar a cabo un Presupuesto de Ingresos y Egresos directamente relacionados son su unidad de producción r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El concluir, el facilitador proporcionará al productor los formatos de ejercicio, y los orientará para su llenado y posterior comparación y retroalimen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ángulo 2"/>
          <p:cNvSpPr/>
          <p:nvPr/>
        </p:nvSpPr>
        <p:spPr>
          <a:xfrm>
            <a:off x="1277640" y="2082960"/>
            <a:ext cx="7277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Objetivo Gen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ángulo 2"/>
          <p:cNvSpPr/>
          <p:nvPr/>
        </p:nvSpPr>
        <p:spPr>
          <a:xfrm>
            <a:off x="1277640" y="1467720"/>
            <a:ext cx="7277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2. </a:t>
            </a: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Actividad de “Sensibilización”</a:t>
            </a: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ángulo 4"/>
          <p:cNvSpPr/>
          <p:nvPr/>
        </p:nvSpPr>
        <p:spPr>
          <a:xfrm>
            <a:off x="805320" y="2719440"/>
            <a:ext cx="80380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El participante  ejemplificará en "Formato Libre" para no influir en la forma en que el productor realiza la planificación de ingresos y egresos. Duración 30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Al concluir, el facilitador proporcionará los formatos del Curso, orientará y guiará al productor para llevar a cabo la estimación de ingresos y cálculo de los costos de producción por ciclo agrícola, vaciando esta información en los formatos correspondientes. Duración 30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ángulo 2"/>
          <p:cNvSpPr/>
          <p:nvPr/>
        </p:nvSpPr>
        <p:spPr>
          <a:xfrm>
            <a:off x="928080" y="2082960"/>
            <a:ext cx="76269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Ejerci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ángulo 1"/>
          <p:cNvSpPr/>
          <p:nvPr/>
        </p:nvSpPr>
        <p:spPr>
          <a:xfrm>
            <a:off x="5511240" y="1108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ángulo 2"/>
          <p:cNvSpPr/>
          <p:nvPr/>
        </p:nvSpPr>
        <p:spPr>
          <a:xfrm>
            <a:off x="5329800" y="527760"/>
            <a:ext cx="3813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2. </a:t>
            </a: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Actividad de “Sensibilización”</a:t>
            </a: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ángulo 4"/>
          <p:cNvSpPr/>
          <p:nvPr/>
        </p:nvSpPr>
        <p:spPr>
          <a:xfrm>
            <a:off x="805320" y="2719440"/>
            <a:ext cx="80380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Ejemp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ángulo 2"/>
          <p:cNvSpPr/>
          <p:nvPr/>
        </p:nvSpPr>
        <p:spPr>
          <a:xfrm>
            <a:off x="1010880" y="1432080"/>
            <a:ext cx="76269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Formato 1. Presupuesto de Ingr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1883520"/>
            <a:ext cx="9142920" cy="497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ángulo 1"/>
          <p:cNvSpPr/>
          <p:nvPr/>
        </p:nvSpPr>
        <p:spPr>
          <a:xfrm>
            <a:off x="5511240" y="1108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ángulo 2"/>
          <p:cNvSpPr/>
          <p:nvPr/>
        </p:nvSpPr>
        <p:spPr>
          <a:xfrm>
            <a:off x="5329800" y="527760"/>
            <a:ext cx="3813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2. </a:t>
            </a: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Actividad de “Sensibilización”</a:t>
            </a: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ángulo 2"/>
          <p:cNvSpPr/>
          <p:nvPr/>
        </p:nvSpPr>
        <p:spPr>
          <a:xfrm>
            <a:off x="710280" y="1320840"/>
            <a:ext cx="54529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Formato 2. Presupuesto de Egr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3640" cy="50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ángulo 1"/>
          <p:cNvSpPr/>
          <p:nvPr/>
        </p:nvSpPr>
        <p:spPr>
          <a:xfrm>
            <a:off x="5511240" y="1108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ángulo 2"/>
          <p:cNvSpPr/>
          <p:nvPr/>
        </p:nvSpPr>
        <p:spPr>
          <a:xfrm>
            <a:off x="5329800" y="527760"/>
            <a:ext cx="3813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2. </a:t>
            </a: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Actividad de “Sensibilización”</a:t>
            </a: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ángulo 2"/>
          <p:cNvSpPr/>
          <p:nvPr/>
        </p:nvSpPr>
        <p:spPr>
          <a:xfrm>
            <a:off x="710280" y="1198080"/>
            <a:ext cx="54529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Formato 2. Presupuesto de Egr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887400" y="1649520"/>
            <a:ext cx="76420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ángulo 2"/>
          <p:cNvSpPr/>
          <p:nvPr/>
        </p:nvSpPr>
        <p:spPr>
          <a:xfrm>
            <a:off x="1277640" y="1467720"/>
            <a:ext cx="7277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2. </a:t>
            </a: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Actividad de “Sensibilización”</a:t>
            </a: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ángulo 4"/>
          <p:cNvSpPr/>
          <p:nvPr/>
        </p:nvSpPr>
        <p:spPr>
          <a:xfrm>
            <a:off x="805320" y="3033360"/>
            <a:ext cx="8038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Una vez concluidas las 2 actividades anteriores (Ejercicio: Planeación de la situación actual y la elaboración del presupuesto de ingresos y egresos por ciclo) se procederá a llevar a cabo un comparativo entre la forma en que actualmente realizan o no su planeación, y la “técnica planificada” la cual les permitirá aprender a diseñar, mejorar o fortalecerla, a través del Curso. Duración 30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ángulo 2"/>
          <p:cNvSpPr/>
          <p:nvPr/>
        </p:nvSpPr>
        <p:spPr>
          <a:xfrm>
            <a:off x="928080" y="2308320"/>
            <a:ext cx="76269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Resultados comparativos de los ejerc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ángulo 2"/>
          <p:cNvSpPr/>
          <p:nvPr/>
        </p:nvSpPr>
        <p:spPr>
          <a:xfrm>
            <a:off x="1277640" y="1467720"/>
            <a:ext cx="7277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2. </a:t>
            </a: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Actividad de “Sensibilización”</a:t>
            </a: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ángulo 4"/>
          <p:cNvSpPr/>
          <p:nvPr/>
        </p:nvSpPr>
        <p:spPr>
          <a:xfrm>
            <a:off x="832680" y="3033360"/>
            <a:ext cx="79153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Al concluir las actividades anteriores y se procurará generar en el productor una reflexión y retroalimentar la importancia y beneficios de contar con técnicas, habilidades y herramientas financieras adecuadas para elaborar un presupuesto de ingresos y egr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Cuestionando lo sigui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ángulo 2"/>
          <p:cNvSpPr/>
          <p:nvPr/>
        </p:nvSpPr>
        <p:spPr>
          <a:xfrm>
            <a:off x="1277640" y="1290240"/>
            <a:ext cx="7277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2. </a:t>
            </a: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Actividad de “Sensibilización”</a:t>
            </a: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ángulo 4"/>
          <p:cNvSpPr/>
          <p:nvPr/>
        </p:nvSpPr>
        <p:spPr>
          <a:xfrm>
            <a:off x="832680" y="2596320"/>
            <a:ext cx="7915320" cy="29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¿Son suficientes los recursos económicos empleados para cubrir los costos de su unidad de producción rur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¿De dónde obtendrá los recursos económicos necesarios a invertir para cubrir oportunamente sus costos de produc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Y en su caso, ;¿contará con los recursos económicos necesarios para cubrir de manera adecuada los costos de producción, el crédito e interés generado y además obtener una utilid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ángulo 2"/>
          <p:cNvSpPr/>
          <p:nvPr/>
        </p:nvSpPr>
        <p:spPr>
          <a:xfrm>
            <a:off x="832680" y="1912680"/>
            <a:ext cx="791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MX" sz="1600" spc="-1" strike="noStrike">
                <a:solidFill>
                  <a:srgbClr val="616161"/>
                </a:solidFill>
                <a:latin typeface="Adelle Sans"/>
              </a:rPr>
              <a:t>Conclusión de la actividad preliminar de Sensibiliz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ángulo 2"/>
          <p:cNvSpPr/>
          <p:nvPr/>
        </p:nvSpPr>
        <p:spPr>
          <a:xfrm>
            <a:off x="1277640" y="1290240"/>
            <a:ext cx="7277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2. </a:t>
            </a: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Actividad de “Sensibilización”</a:t>
            </a: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ángulo 4"/>
          <p:cNvSpPr/>
          <p:nvPr/>
        </p:nvSpPr>
        <p:spPr>
          <a:xfrm>
            <a:off x="832680" y="3115080"/>
            <a:ext cx="79153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Definir “todas” las actividades y acciones a realizar en un ciclo productivo que generen un c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Estimar en términos monetarios los costos relacionados con el ciclo produc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Definir los recursos que podrían ser financiados para complementar y cubrir de manera oportuna sus costos de produ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ángulo 2"/>
          <p:cNvSpPr/>
          <p:nvPr/>
        </p:nvSpPr>
        <p:spPr>
          <a:xfrm>
            <a:off x="832680" y="1912680"/>
            <a:ext cx="791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MX" sz="1600" spc="-1" strike="noStrike">
                <a:solidFill>
                  <a:srgbClr val="616161"/>
                </a:solidFill>
                <a:latin typeface="Adelle Sans"/>
              </a:rPr>
              <a:t>Algunos beneficios de planificar un presupuesto de ingresos y egresos s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ángulo 2"/>
          <p:cNvSpPr/>
          <p:nvPr/>
        </p:nvSpPr>
        <p:spPr>
          <a:xfrm>
            <a:off x="1277640" y="1566720"/>
            <a:ext cx="7018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Integración del Cu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ángulo 4"/>
          <p:cNvSpPr/>
          <p:nvPr/>
        </p:nvSpPr>
        <p:spPr>
          <a:xfrm>
            <a:off x="1277640" y="2489760"/>
            <a:ext cx="701892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Presen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Evaluación inicial de conocimientos en materia de “Educación Financiera” y “Sustentabilida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Actividad de “Sensibilizació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Inicio del Cu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ángulo 2"/>
          <p:cNvSpPr/>
          <p:nvPr/>
        </p:nvSpPr>
        <p:spPr>
          <a:xfrm>
            <a:off x="1277640" y="1290240"/>
            <a:ext cx="7277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2. </a:t>
            </a: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Actividad de “Sensibilización”</a:t>
            </a: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ángulo 4"/>
          <p:cNvSpPr/>
          <p:nvPr/>
        </p:nvSpPr>
        <p:spPr>
          <a:xfrm>
            <a:off x="832680" y="2992320"/>
            <a:ext cx="7915320" cy="29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4. Definir los rubros y montos económicos que deberá aportar para cubrir los costos de produ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5. Presupuestar la cantidad de ingresos económicos que deberá destinar para hacer frente a un compromiso financ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6. Estimar la utilidad que obtendrá al final de un ciclo, después de hacer frente a sus costos de producción y compromisos externos de financiamiento. (Pago del crédit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ángulo 2"/>
          <p:cNvSpPr/>
          <p:nvPr/>
        </p:nvSpPr>
        <p:spPr>
          <a:xfrm>
            <a:off x="832680" y="1912680"/>
            <a:ext cx="791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MX" sz="1600" spc="-1" strike="noStrike">
                <a:solidFill>
                  <a:srgbClr val="616161"/>
                </a:solidFill>
                <a:latin typeface="Adelle Sans"/>
              </a:rPr>
              <a:t>Algunos beneficios de planificar un presupuesto de ingresos y egresos s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ángulo 2"/>
          <p:cNvSpPr/>
          <p:nvPr/>
        </p:nvSpPr>
        <p:spPr>
          <a:xfrm>
            <a:off x="1277640" y="1566720"/>
            <a:ext cx="7018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1. Presen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ángulo 4"/>
          <p:cNvSpPr/>
          <p:nvPr/>
        </p:nvSpPr>
        <p:spPr>
          <a:xfrm>
            <a:off x="1277640" y="2489760"/>
            <a:ext cx="70189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1.1. Marco de Refer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1.2. Objetivo Gen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1.3. Objetivos Particu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ángulo 2"/>
          <p:cNvSpPr/>
          <p:nvPr/>
        </p:nvSpPr>
        <p:spPr>
          <a:xfrm>
            <a:off x="1277640" y="1403640"/>
            <a:ext cx="7018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Marco de referencia para propiciar la Educación Financiera en el Sector Agropecuario y 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ángulo 4"/>
          <p:cNvSpPr/>
          <p:nvPr/>
        </p:nvSpPr>
        <p:spPr>
          <a:xfrm>
            <a:off x="1051920" y="2523600"/>
            <a:ext cx="746964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Los beneficios de la inclusión financiera por parte del sector agropecuario y rural, se traducen en un mayor bienestar y desarrollo económico, incidiendo directamente en la reducción de la pobreza y la posibilidad de mejorar las condiciones de vida del productor, dado que el acceso a recursos crediticios facilita la inversión productiva, la adquisición de insumos, la adopción de tecnologías innovadoras, sustentables y la diversificación de produ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ángulo 2"/>
          <p:cNvSpPr/>
          <p:nvPr/>
        </p:nvSpPr>
        <p:spPr>
          <a:xfrm>
            <a:off x="1277640" y="1936080"/>
            <a:ext cx="45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Objetivo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ángulo 4"/>
          <p:cNvSpPr/>
          <p:nvPr/>
        </p:nvSpPr>
        <p:spPr>
          <a:xfrm>
            <a:off x="1277640" y="3075840"/>
            <a:ext cx="70189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Desarrollar, fomentar la promoción, participación, desarrollo de habilidades y capacidades en el productor para el acceso a créditos y otros instrumentos financi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ángulo 2"/>
          <p:cNvSpPr/>
          <p:nvPr/>
        </p:nvSpPr>
        <p:spPr>
          <a:xfrm>
            <a:off x="1277640" y="1692000"/>
            <a:ext cx="7018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Objetivos parti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ángulo 4"/>
          <p:cNvSpPr/>
          <p:nvPr/>
        </p:nvSpPr>
        <p:spPr>
          <a:xfrm>
            <a:off x="1277640" y="2489760"/>
            <a:ext cx="7018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1.- Promover la Educación Financiera consiente y responsable, en el medio rural, como una alternativa de apoyo al desarrollo, crecimiento y mejora de las condiciones económicas actuales de vida en los produc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ángulo 4"/>
          <p:cNvSpPr/>
          <p:nvPr/>
        </p:nvSpPr>
        <p:spPr>
          <a:xfrm>
            <a:off x="1277640" y="4355640"/>
            <a:ext cx="7018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2.- Fomentar la gestión y uso del crédito, como herramienta de apoyo y desarrollo en el medio rural, buscando incrementar y mejorar las unidades de producción rural, incentivando la asociatividad de grupos de produc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ángulo 2"/>
          <p:cNvSpPr/>
          <p:nvPr/>
        </p:nvSpPr>
        <p:spPr>
          <a:xfrm>
            <a:off x="1277640" y="1919160"/>
            <a:ext cx="7277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2. </a:t>
            </a: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Evaluación inicial de conocimientos en materia de “Educación Financiera”</a:t>
            </a: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ángulo 4"/>
          <p:cNvSpPr/>
          <p:nvPr/>
        </p:nvSpPr>
        <p:spPr>
          <a:xfrm>
            <a:off x="1277640" y="3374280"/>
            <a:ext cx="72774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El objetivo de la evaluación es identificar y cuantificar el nivel de conocimiento del participante en materia de Educación Financiera y Sustentabilidad, directamente relacionados con el contenido del Módul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ángulo 2"/>
          <p:cNvSpPr/>
          <p:nvPr/>
        </p:nvSpPr>
        <p:spPr>
          <a:xfrm>
            <a:off x="1277640" y="1566720"/>
            <a:ext cx="7277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2. </a:t>
            </a: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Evaluación inicial de conocimientos en materia de “Educación Financiera”</a:t>
            </a: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ángulo 4"/>
          <p:cNvSpPr/>
          <p:nvPr/>
        </p:nvSpPr>
        <p:spPr>
          <a:xfrm>
            <a:off x="864360" y="2514600"/>
            <a:ext cx="76906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Instruccion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Aplicación de cuestionario con respuestas de opción múltiple. Duración 30 minu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Al concluir, se realiza un intercambio entre participantes para autoevaluar a sus compañeros, fomentando la participación. Las respuestas las dará el Facilitador. Duración 30 minu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Momento de retroalimentación a la activ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ángulo 1"/>
          <p:cNvSpPr/>
          <p:nvPr/>
        </p:nvSpPr>
        <p:spPr>
          <a:xfrm>
            <a:off x="5335920" y="602280"/>
            <a:ext cx="363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a51c32"/>
                </a:solidFill>
                <a:latin typeface="Adelle Sans"/>
              </a:rPr>
              <a:t>Educ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ángulo 2"/>
          <p:cNvSpPr/>
          <p:nvPr/>
        </p:nvSpPr>
        <p:spPr>
          <a:xfrm>
            <a:off x="1277640" y="1416600"/>
            <a:ext cx="7277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2. </a:t>
            </a: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Evaluación inicial de conocimientos en materia de “Educación Financiera”</a:t>
            </a:r>
            <a:r>
              <a:rPr b="1" lang="es-ES" sz="1800" spc="-1" strike="noStrike">
                <a:solidFill>
                  <a:srgbClr val="616161"/>
                </a:solidFill>
                <a:latin typeface="Adelle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ángulo 4"/>
          <p:cNvSpPr/>
          <p:nvPr/>
        </p:nvSpPr>
        <p:spPr>
          <a:xfrm>
            <a:off x="864360" y="2400840"/>
            <a:ext cx="769068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s-MX" sz="1800" spc="-1" strike="noStrike">
                <a:solidFill>
                  <a:srgbClr val="616161"/>
                </a:solidFill>
                <a:latin typeface="Adelle Sans"/>
              </a:rPr>
              <a:t>Componentes a Evalu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Conocimientos generales en materia Financiera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Ingresos, Ahorro, Inversión, Crédito y Subsi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Conceptos Generales de Planeación Financi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Servicios y Productos Financi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Estructura del Capital de Tra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Riesgo y protección financi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16161"/>
              </a:buClr>
              <a:buFont typeface="StarSymbol"/>
              <a:buAutoNum type="arabicPeriod"/>
            </a:pPr>
            <a:r>
              <a:rPr b="0" lang="es-MX" sz="1800" spc="-1" strike="noStrike">
                <a:solidFill>
                  <a:srgbClr val="616161"/>
                </a:solidFill>
                <a:latin typeface="Adelle Sans"/>
              </a:rPr>
              <a:t>¿Qué son las Finanzas Ver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e Office">
  <a:themeElements>
    <a:clrScheme name="Opulento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DVMPres</Template>
  <TotalTime>2837</TotalTime>
  <Application>LibreOffice/7.4.7.2$Linux_X86_64 LibreOffice_project/40$Build-2</Application>
  <AppVersion>15.0000</AppVersion>
  <Words>1216</Words>
  <Paragraphs>101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4T18:12:53Z</dcterms:created>
  <dc:creator>Hewlett-Packard Company</dc:creator>
  <dc:description/>
  <dc:language>en-US</dc:language>
  <cp:lastModifiedBy>Daniela Vázquez Castilleja</cp:lastModifiedBy>
  <cp:lastPrinted>2019-11-12T17:28:47Z</cp:lastPrinted>
  <dcterms:modified xsi:type="dcterms:W3CDTF">2021-02-15T01:33:32Z</dcterms:modified>
  <cp:revision>141</cp:revision>
  <dc:subject/>
  <dc:title>Planeación #ExpoPueblaCDMX201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20</vt:r8>
  </property>
</Properties>
</file>